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11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03A-1E7B-4DE3-BEB6-5F90CA08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524-6218-4239-9269-4FA4E7AB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C80-87B3-4B24-8681-3C67AABE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82D-9297-416E-8F3F-F8FE088B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395-CA6F-44F9-8EBA-552CE790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F2F-6452-4806-973F-216F9DFA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0C3-FBB6-453C-9568-465981AD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955-D071-45AE-9730-82071853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140-BF55-4CCA-825F-FCC5AAC4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814-3D14-4F17-8A4E-C1C4E0FE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987-4051-4F0D-B7F0-42378E9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B29-CCB9-45A3-8159-11B353E0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F715-CFA4-4379-908E-39C8FC1E8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wmf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00207_" descr=""/>
          <p:cNvPicPr/>
          <p:nvPr/>
        </p:nvPicPr>
        <p:blipFill>
          <a:blip r:embed="rId1"/>
          <a:stretch/>
        </p:blipFill>
        <p:spPr>
          <a:xfrm>
            <a:off x="1324080" y="1714680"/>
            <a:ext cx="2190600" cy="2514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067280" y="34308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an01293_" descr=""/>
          <p:cNvPicPr/>
          <p:nvPr/>
        </p:nvPicPr>
        <p:blipFill>
          <a:blip r:embed="rId3"/>
          <a:stretch/>
        </p:blipFill>
        <p:spPr>
          <a:xfrm>
            <a:off x="6865920" y="2057400"/>
            <a:ext cx="2325600" cy="2629080"/>
          </a:xfrm>
          <a:prstGeom prst="rect">
            <a:avLst/>
          </a:prstGeom>
          <a:ln w="0">
            <a:noFill/>
          </a:ln>
        </p:spPr>
      </p:pic>
      <p:pic>
        <p:nvPicPr>
          <p:cNvPr id="44" name="MCj04347260000[1]" descr=""/>
          <p:cNvPicPr/>
          <p:nvPr/>
        </p:nvPicPr>
        <p:blipFill>
          <a:blip r:embed="rId4"/>
          <a:stretch/>
        </p:blipFill>
        <p:spPr>
          <a:xfrm>
            <a:off x="295200" y="343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71960" y="1943280"/>
            <a:ext cx="95256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80360" y="692280"/>
            <a:ext cx="1085760" cy="1257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686480"/>
            <a:ext cx="8497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pperplate Gothic Bold"/>
                <a:ea typeface="Times New Roman"/>
              </a:rPr>
              <a:t>You can’t bug me…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pperplate Gothic Bold"/>
                <a:ea typeface="Times New Roman"/>
              </a:rPr>
              <a:t>I can manage my impulsiv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380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56360" y="476280"/>
            <a:ext cx="2233440" cy="1618560"/>
          </a:xfrm>
          <a:prstGeom prst="rect">
            <a:avLst/>
          </a:prstGeom>
          <a:solidFill>
            <a:srgbClr val="bbe0e3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kids in Ms Maugham’s class are cool. They come to school to lea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5229360"/>
            <a:ext cx="6408720" cy="1008720"/>
          </a:xfrm>
          <a:prstGeom prst="rect">
            <a:avLst/>
          </a:prstGeom>
          <a:solidFill>
            <a:srgbClr val="bbe0e3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ut there was a problem. There were bugs, three bugs, BIG bugs. They came to school to bug everybody, every bit of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620640"/>
            <a:ext cx="7777440" cy="67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Ms Maugham encouraged the children to develop the Habit of Mind – Managing your Impulsivity by sa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1, 2, 3, You can’t bug me… I manage my impulsivity”, every time someone or something bothere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71640" y="3389400"/>
            <a:ext cx="30672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836640"/>
            <a:ext cx="6481800" cy="703800"/>
          </a:xfrm>
          <a:prstGeom prst="rect">
            <a:avLst/>
          </a:prstGeom>
          <a:solidFill>
            <a:srgbClr val="bbe0e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n the mat ‘Chatty Bug’ buzzed in and talked to the person next to 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5300640"/>
            <a:ext cx="4248000" cy="1008720"/>
          </a:xfrm>
          <a:prstGeom prst="rect">
            <a:avLst/>
          </a:pr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aith said “ 1 2 3, You can’t bug me … I manage my impulsivity,” and found a new place to s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21440" y="1916280"/>
            <a:ext cx="30225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692280"/>
            <a:ext cx="4464000" cy="91692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Whenever a tractor went by or a visitor arrived, ‘Nosy Bug’ jumped up and ran to the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653000"/>
            <a:ext cx="4608720" cy="131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children said ‘1 2 3 You can’t bug me…We manage our impulsivity” and they stayed in their sea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30672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5040360" cy="1008720"/>
          </a:xfrm>
          <a:prstGeom prst="rect">
            <a:avLst/>
          </a:prstGeom>
          <a:solidFill>
            <a:srgbClr val="bbe0e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uring discussion time, ‘Bored Bug’ yawned, fidgeted and would talk to anyone that would listen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5300640"/>
            <a:ext cx="4174920" cy="13136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s Maugham said, “1 2 3 You can’t bug me … I manage my impulsivity”, and asked ‘Bored Bug’ the next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flipH="1">
            <a:off x="468360" y="4437000"/>
            <a:ext cx="22939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836640"/>
            <a:ext cx="7417080" cy="703800"/>
          </a:xfrm>
          <a:prstGeom prst="rect">
            <a:avLst/>
          </a:prstGeom>
          <a:solidFill>
            <a:srgbClr val="bbe0e3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verybody practised every bit of every day until…the bugs got smaller and smaller and buzzed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322200" cy="21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80880" cy="43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244000" y="5661000"/>
            <a:ext cx="3823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1:11:27Z</dcterms:created>
  <dc:creator>Ministry of Education</dc:creator>
  <dc:description/>
  <dc:language>en-US</dc:language>
  <cp:lastModifiedBy>Ministry of Education</cp:lastModifiedBy>
  <dcterms:modified xsi:type="dcterms:W3CDTF">2008-05-27T13:27:31Z</dcterms:modified>
  <cp:revision>5</cp:revision>
  <dc:subject/>
  <dc:title>Slide 1</dc:title>
</cp:coreProperties>
</file>